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608-6095-43C9-A703-4CFD327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000-E9E5-4EEB-8FD1-A6CE7E2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135-A4DB-4FE1-A39D-5CA4421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934-DC98-4F94-BFB2-729C3F3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7FE-4BFA-46DF-8C9F-75654D4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0A6-E98B-4CE3-B60F-5CA8A28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5AB-F64E-4F9C-98B5-D6D33A8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2B7-97D0-4A21-BA96-338A25B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0F1-9EC8-4DF9-B426-7456705A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93A-C4AF-445A-A8BE-DD989EA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E23-0DE8-4C28-A429-887A780E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1D0-7DB5-457F-8968-4236A51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E1BA-7367-421A-AB79-5E17ECD72C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5940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Мастер – класс по изучению одного из приёмов технологии коллектив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429160" y="2928960"/>
            <a:ext cx="33181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рунова Наталья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химии, биологии МБОУ Дзержинская СШ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Хороших методов существует ровно столько, сколько существует хороших учителей»  Д. По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732720" y="59500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D5D-12E6-4E46-A65F-B79FFAB38D8A}" type="slidenum">
              <a:rPr b="1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фильм.mp4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813420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189000"/>
            <a:ext cx="84297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ём «Отгадай крылатую фразу»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ак способ формирования метапредметных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24998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 мастер – кл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оздать условия для овладения педагогами приёмом «Отгадай крылатую фраз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8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C9E-BB4D-49F7-8695-32810B6A86CC}" type="slidenum">
              <a:rPr b="1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ём «Отгадай крылатую фразу»,– один из приёмов технологии коллектив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77C-AA9F-4E22-A287-EA01354CEE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28760" y="2071800"/>
            <a:ext cx="6572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лий Кузьмич Дья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й педагог, дидакт. Основоположник теории коллективного способа обучения, внесший большой практический вклад в его стано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8" descr="DVK_40.jpg"/>
          <p:cNvPicPr/>
          <p:nvPr/>
        </p:nvPicPr>
        <p:blipFill>
          <a:blip r:embed="rId1"/>
          <a:stretch/>
        </p:blipFill>
        <p:spPr>
          <a:xfrm>
            <a:off x="6643800" y="2571840"/>
            <a:ext cx="2289240" cy="30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ть приё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9162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804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A84-7A42-44C7-85D6-BC34C8E4D5AA}" type="slidenum">
              <a:rPr b="1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785880" y="2000160"/>
            <a:ext cx="242892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1,2,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3500280" y="2000160"/>
            <a:ext cx="235764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4,5,6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6286680" y="2000160"/>
            <a:ext cx="2286000" cy="1571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7,8,9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500120" y="4572000"/>
            <a:ext cx="650088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для все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тгадай крылатую фраз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буквы фразы кодируются ответами на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1"/>
          <p:cNvSpPr/>
          <p:nvPr/>
        </p:nvSpPr>
        <p:spPr>
          <a:xfrm>
            <a:off x="2357280" y="3786120"/>
            <a:ext cx="14292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2"/>
          <p:cNvSpPr/>
          <p:nvPr/>
        </p:nvSpPr>
        <p:spPr>
          <a:xfrm>
            <a:off x="6715080" y="3643200"/>
            <a:ext cx="142920" cy="7858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3"/>
          <p:cNvSpPr/>
          <p:nvPr/>
        </p:nvSpPr>
        <p:spPr>
          <a:xfrm>
            <a:off x="4643280" y="3786120"/>
            <a:ext cx="14292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уций Анне Сенека –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имский философ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4в.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5" descr="slide_2.jpg"/>
          <p:cNvPicPr/>
          <p:nvPr/>
        </p:nvPicPr>
        <p:blipFill>
          <a:blip r:embed="rId1"/>
          <a:srcRect l="2433" t="7979" r="51362" b="0"/>
          <a:stretch/>
        </p:blipFill>
        <p:spPr>
          <a:xfrm>
            <a:off x="5857920" y="2000160"/>
            <a:ext cx="2714760" cy="405468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622-3BA7-43DD-8AF2-88CE08FEFD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714240" y="27147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ек живи – век учись тому, как следует ж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Лист самооцен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4200" y="554040"/>
          <a:ext cx="8715600" cy="6218280"/>
        </p:xfrm>
        <a:graphic>
          <a:graphicData uri="http://schemas.openxmlformats.org/drawingml/2006/table">
            <a:tbl>
              <a:tblPr/>
              <a:tblGrid>
                <a:gridCol w="1643040"/>
                <a:gridCol w="3714840"/>
                <a:gridCol w="1000080"/>
                <a:gridCol w="2357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яемое у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ла оценивани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 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 о сформированности проверяемого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ил(а) приём «Отгадай крылатую фраз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огу ответить на вопрос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ём суть приём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Умение сформировано, если можете ответить на вс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Умение формируется, если можете ответить на  большую часть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Умение не сформировано, если не можете ответить на большую часть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акова схема организации работы класса при помощи  данного приём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х этапах  и типах урока можно использовать данный приё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а развитие каких УУД направлен приё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 чём ценность этого приём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0B5F-991A-4586-A6BD-2903B6C637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7"/>
          <p:cNvSpPr/>
          <p:nvPr/>
        </p:nvSpPr>
        <p:spPr>
          <a:xfrm>
            <a:off x="0" y="0"/>
            <a:ext cx="9144000" cy="628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5" descr="depositphotos_4812789-Gerbera.jpg"/>
          <p:cNvPicPr/>
          <p:nvPr/>
        </p:nvPicPr>
        <p:blipFill>
          <a:blip r:embed="rId1"/>
          <a:stretch/>
        </p:blipFill>
        <p:spPr>
          <a:xfrm>
            <a:off x="357120" y="4500720"/>
            <a:ext cx="1643040" cy="1487160"/>
          </a:xfrm>
          <a:prstGeom prst="rect">
            <a:avLst/>
          </a:prstGeom>
          <a:ln w="0">
            <a:noFill/>
          </a:ln>
        </p:spPr>
      </p:pic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6AB3-1EBF-411E-AB39-4A95137B73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0151.png"/>
          <p:cNvPicPr/>
          <p:nvPr/>
        </p:nvPicPr>
        <p:blipFill>
          <a:blip r:embed="rId2"/>
          <a:stretch/>
        </p:blipFill>
        <p:spPr>
          <a:xfrm>
            <a:off x="500040" y="428760"/>
            <a:ext cx="1494000" cy="1461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1258cf_57dfe314_orig.png"/>
          <p:cNvPicPr/>
          <p:nvPr/>
        </p:nvPicPr>
        <p:blipFill>
          <a:blip r:embed="rId3"/>
          <a:stretch/>
        </p:blipFill>
        <p:spPr>
          <a:xfrm>
            <a:off x="285840" y="2500200"/>
            <a:ext cx="1701720" cy="1463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0_15400b_a825c31e_orig.png"/>
          <p:cNvPicPr/>
          <p:nvPr/>
        </p:nvPicPr>
        <p:blipFill>
          <a:blip r:embed="rId4"/>
          <a:stretch/>
        </p:blipFill>
        <p:spPr>
          <a:xfrm>
            <a:off x="4714920" y="2571840"/>
            <a:ext cx="1498680" cy="1635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8708385-Blue-flower-Stock-Photo.jpg"/>
          <p:cNvPicPr/>
          <p:nvPr/>
        </p:nvPicPr>
        <p:blipFill>
          <a:blip r:embed="rId5"/>
          <a:stretch/>
        </p:blipFill>
        <p:spPr>
          <a:xfrm>
            <a:off x="4714920" y="428760"/>
            <a:ext cx="1747800" cy="1611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071800" y="571680"/>
            <a:ext cx="2143080" cy="1313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мастер – класса я устал, позевал я и посп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143080" y="2571840"/>
            <a:ext cx="214308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 не скучно и не классно, словом, всё как-то напр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2143080" y="4643280"/>
            <a:ext cx="2071800" cy="1313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меня уже не ново, всё давно уже знако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500880" y="500040"/>
            <a:ext cx="2214360" cy="1313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тер – класс всем был хорош, но на многие похо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6572160" y="2643120"/>
            <a:ext cx="2143080" cy="1313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ло, классно, ново было, но чего-то не хват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500880" y="4643280"/>
            <a:ext cx="2357280" cy="1313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но было, всё прекрасно, к  вам хочу еще не раз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8" descr="depositphotos_40291577-stock-illustration-beautiful-flower-dahlia-drawn-in.jpg"/>
          <p:cNvPicPr/>
          <p:nvPr/>
        </p:nvPicPr>
        <p:blipFill>
          <a:blip r:embed="rId6"/>
          <a:stretch/>
        </p:blipFill>
        <p:spPr>
          <a:xfrm>
            <a:off x="4357800" y="421488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сотрудничест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5" descr="img2.jpg"/>
          <p:cNvPicPr/>
          <p:nvPr/>
        </p:nvPicPr>
        <p:blipFill>
          <a:blip r:embed="rId1"/>
          <a:stretch/>
        </p:blipFill>
        <p:spPr>
          <a:xfrm>
            <a:off x="1706400" y="1706400"/>
            <a:ext cx="6278760" cy="464508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F25-9AFD-4A51-9E82-FD70C6D08C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8-05-20T14:02:54Z</dcterms:modified>
  <cp:revision>811</cp:revision>
  <dc:subject/>
  <dc:title>Diapositiva 1</dc:title>
</cp:coreProperties>
</file>